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3D3-3184-43AA-84CC-69654822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891-2472-4C29-A4DA-4C729084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93F-AF26-4B9F-91C8-4583AF2A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327-FA34-4B6C-9052-ED8BAA13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7D4-3843-451D-BDC1-CA59380D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CE9-80D0-4713-9CD4-0AF29D1B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656-7617-4C2A-836B-A49114F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7FD-FDF7-4A9B-BA7D-771078F4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4AF-725F-4461-B39C-0228FD2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336-81F9-4532-9262-C269D4B2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1E4-D1B8-4561-8263-D9B3B21B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CE4-959B-4C9F-8C9E-1B8CC65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024C-D754-45F2-B648-37668624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ydr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 of the earth’s surface is covered wit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s:  9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:  2.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 &lt; .00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ycle:  Eva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changes from liquid to gas (vap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% of evaporation comes from the _________, the rest from ___________ and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__ transport evaporated water around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67200" y="160020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ycle:  Cond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changes from gas to ____________ as they rise in the atmosphere (gets col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droplets adhere to particles in the atmosphere and form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67200" y="160020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ycle:  Tran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evaporates from the ________ and ________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 of evaporated water comes from 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047760" cy="210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2381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ycle: 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transfers from the atmosphere to the earth’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4114800" cy="268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ycle:  Run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off transfers water from _______, rivers and ________ to the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off also occurs when the ground cannot ________ any more water and it flows on the ________ into bodies of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27241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ater, water everywhere…but not a drop to dr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lmost all of the earth’s water in the oceans, less than _____ is available for huma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to water is not equal, due to ________ and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3581280" cy="237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3913200"/>
            <a:ext cx="39625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40381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pollution is a major problem around the world, including here in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f of the world’s population…3 billion people!...don’t have access to clea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1320" y="304920"/>
            <a:ext cx="2857320" cy="171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93640" y="646200"/>
            <a:ext cx="36734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The equivalent of 12 jumbo jets of children die everyday from sanitation-related diseas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UN Water ex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733920" y="2057400"/>
            <a:ext cx="28573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TER FA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ay more than 1 billion people make a 3-hour journey ON FOOT just to collect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,000 people die every day from water-related illnesses.  This includes diseases transmitted via water, from lack of water, and from parasites that breed i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0:26:07Z</dcterms:created>
  <dc:creator>sforsland</dc:creator>
  <dc:description/>
  <dc:language>en-US</dc:language>
  <cp:lastModifiedBy>hberndt</cp:lastModifiedBy>
  <dcterms:modified xsi:type="dcterms:W3CDTF">2007-10-04T13:44:39Z</dcterms:modified>
  <cp:revision>6</cp:revision>
  <dc:subject/>
  <dc:title>Hydrosphere</dc:title>
</cp:coreProperties>
</file>